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Script MT 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Script MT Bold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Script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Script MT Bold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Script MT 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Script MT Bold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CD93-B14D-4502-9AD3-28B12EC07B98}" type="slidenum">
              <a:rPr b="0" i="1" lang="en-US" sz="1200" spc="-1" strike="noStrike">
                <a:solidFill>
                  <a:srgbClr val="000000"/>
                </a:solidFill>
                <a:latin typeface="Script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Xref, PAC, other Predict info, source generation, Construc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usually use “localhost” as the node name (RDNODE) since it’s defined as the local loop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ed Parameters are only accessible by a dialo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uring the before-open and after-open event processing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ing of a dialog,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ll of th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ference the base dialog's local data are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ing a dialog is a 2 step process, first OPEN DIALOG then Add to the generic 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Dialog ’YOURDIAG' NULL-HANDLE Giving #Dialog-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#Parent-Plug-In #Parent-Studio-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GenericDocs := #OBJS.Generic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"Add" To #GenericDocs With #Dialog-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#Dialog GIVING *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enerate a default plug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w plug-in example in SYSEXPLG (NST* subprogra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reates new comm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reates menu &amp; toolbar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bug a plug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t NATPARM for remote debug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bug the example plug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w Compare U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dd to the menu, toolbar(s), &amp; context menus (from a right-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nd what type of modules the action can be performed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can be enabled or disabled depending on what the current sel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cumentation is pretty good, but it’s not really organized in a way that helps when first start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ome things you almost need to know what you want before the documentation can be found - not uncomm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’n’dirties to find out available objects (I.e. context men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 driven applications aren’t difficult, just diffe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gets invoked “automagically” when something happens, and not just by the user. I.E. Setting a value of an input box in a dialog can invoke its’ On-Change e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documentation never refers to the subprogram names, only the “method name”.  Some are described in the plug-in quick st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Activation - used to get everything ready and set up for using the plug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ommand - where a command gets selected.  It’s where the code for the custom “utility” lives or is called fr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ommandStatus - enable or disable commands for selection depending on custom criteria like current selection type or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Deactivation - can be used to “clean-up”, only invoked when the plug-in is deactivated from the Plug-in manager or when the Studio session e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Notify events - lets your plug-in know when certain “things” happen, I.E. PLUGIN-NOTIFY-QUERYCLOSE is sent when the Studio user is attempting to close a generic document window created by the plug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or Shared server process – “stand-alone” or run under the Plugin Manager process.  Main difference is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source in the program editor as read-only - allows access to source even while someone has it open in the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MAIN-like because the setup &amp; return values are in a different format.  Environments are Studio objects, returned information is an XML document (defined in the document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sing collections natively isn’t limited to plugins, but a useful addition to Nat6.2!!  Allows going through an “un-ordered” list (array) of objects, like a collection of sub-folders or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D5BBD-0FB6-4056-AB87-2E82291C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A0DA5-2CE1-40F6-B379-E56D0970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BE6A5-E392-45CD-8208-C43BF220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F24BF-48D5-445C-A9A3-2EF20977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F869-5C11-45BD-A583-D273A8F6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A65E-08E3-4259-9A1A-A972DF61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C6F6-7D8E-4F06-B252-276D0202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ACE1-26B6-47D8-AE58-66EE0C68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E9CD-CD2A-4B7F-9FB4-83F1ADBC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0A3C-667A-4418-9970-A598DC82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9827-7BF8-4482-A66F-C8C64580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2E5CE-8F56-41A4-B6CC-56AEA66C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6366-71DB-44DC-ABC2-74BD32E2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F181-8305-44DC-AC23-C7B61388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62BF-0B3C-4960-B908-6DF4B155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D109-40F0-43FB-9756-9A9EE175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1C02-4FA1-491D-BC45-30FE3A4F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AAE44-E053-4F12-B7C0-17692127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48D75-769D-49F0-AFB1-9CB0486D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BD1E6-0D45-424E-B7E7-35E31DAF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31215-B66F-4775-A407-EF2C8DE7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2B00-86F5-4DE6-96F4-9FFA964E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40F08-5377-4FC8-A2F8-E8F91597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4220F-5115-41FE-8A6A-F1912FA0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A780-B2FC-4F69-8C72-A2314EC8D8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8EDF-835C-4102-915B-AD88484901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e5e5ff"/>
                </a:solidFill>
                <a:latin typeface="Garamond"/>
              </a:rPr>
              <a:t>Creating a Natural Studio Plug-i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69850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What can a plug-in do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4000" y="6021360"/>
            <a:ext cx="8424720" cy="722160"/>
            <a:chOff x="324000" y="6021360"/>
            <a:chExt cx="8424720" cy="72216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324000" y="6021360"/>
              <a:ext cx="842472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co-op-r.gif (1042 bytes)"/>
            <p:cNvPicPr/>
            <p:nvPr/>
          </p:nvPicPr>
          <p:blipFill>
            <a:blip r:embed="rId2"/>
            <a:stretch/>
          </p:blipFill>
          <p:spPr>
            <a:xfrm>
              <a:off x="7740720" y="6237000"/>
              <a:ext cx="9349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84360" y="6165720"/>
              <a:ext cx="6913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Chad Scott,   Information Servi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Federated Co-operatives Limited, Saskatoon, Saskatchewan, Canad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990720" y="2362320"/>
            <a:ext cx="7238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Add new functionality to Stu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Integrate existing utilities into Stu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ready a number of examples &amp;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Our imagination &amp;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e5e5ff"/>
                </a:solidFill>
                <a:latin typeface="Garamond"/>
              </a:rPr>
              <a:t>Creating a Natural Studio Plug-i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69850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Debugging a plug-in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4000" y="6021360"/>
            <a:ext cx="8424720" cy="722160"/>
            <a:chOff x="324000" y="6021360"/>
            <a:chExt cx="8424720" cy="72216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324000" y="6021360"/>
              <a:ext cx="842472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co-op-r.gif (1042 bytes)"/>
            <p:cNvPicPr/>
            <p:nvPr/>
          </p:nvPicPr>
          <p:blipFill>
            <a:blip r:embed="rId2"/>
            <a:stretch/>
          </p:blipFill>
          <p:spPr>
            <a:xfrm>
              <a:off x="7740720" y="6237000"/>
              <a:ext cx="9349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84360" y="6165720"/>
              <a:ext cx="6913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Chad Scott,   Information Servi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Federated Co-operatives Limited, Saskatoon, Saskatchewan, Canad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14400" y="2438280"/>
            <a:ext cx="73152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Plug-ins use NATPARM config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Use Remote Debu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Plug-in Manager is a plug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Stepping through shows how events work, and can really show code ineffienci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e5e5ff"/>
                </a:solidFill>
                <a:latin typeface="Garamond"/>
              </a:rPr>
              <a:t>Creating a Natural Studio Plug-i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69850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Dialogs with a plug-in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24000" y="6021360"/>
            <a:ext cx="8424720" cy="722160"/>
            <a:chOff x="324000" y="6021360"/>
            <a:chExt cx="8424720" cy="72216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324000" y="6021360"/>
              <a:ext cx="842472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co-op-r.gif (1042 bytes)"/>
            <p:cNvPicPr/>
            <p:nvPr/>
          </p:nvPicPr>
          <p:blipFill>
            <a:blip r:embed="rId2"/>
            <a:stretch/>
          </p:blipFill>
          <p:spPr>
            <a:xfrm>
              <a:off x="7740720" y="6237000"/>
              <a:ext cx="9349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684360" y="6165720"/>
              <a:ext cx="6913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Chad Scott,   Information Servi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Federated Co-operatives Limited, Saskatoon, Saskatchewan, Canad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914400" y="2209680"/>
            <a:ext cx="73152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Can use Dialog Wizard to generate a “MDI Child Window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Must switch it to a “MDI Plug-in Window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Open the dialog and pass handles to plug-in and Studio objects (if need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To make it visible it needs to be added to the generic documents in Stu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e5e5ff"/>
                </a:solidFill>
                <a:latin typeface="Garamond"/>
              </a:rPr>
              <a:t>Creating a Natural Studio Plug-i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69850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Questions or Comment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24000" y="6021360"/>
            <a:ext cx="8424720" cy="722160"/>
            <a:chOff x="324000" y="6021360"/>
            <a:chExt cx="8424720" cy="72216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324000" y="6021360"/>
              <a:ext cx="842472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co-op-r.gif (1042 bytes)"/>
            <p:cNvPicPr/>
            <p:nvPr/>
          </p:nvPicPr>
          <p:blipFill>
            <a:blip r:embed="rId2"/>
            <a:stretch/>
          </p:blipFill>
          <p:spPr>
            <a:xfrm>
              <a:off x="7740720" y="6237000"/>
              <a:ext cx="9349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84360" y="6165720"/>
              <a:ext cx="6913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Chad Scott,   Information Servi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Federated Co-operatives Limited, Saskatoon, Saskatchewan, Canad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828800" y="2438280"/>
            <a:ext cx="5029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… 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on to the good par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Garamond"/>
              </a:rPr>
              <a:t>Create a new plug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Garamond"/>
              </a:rPr>
              <a:t>Show adding menu e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Garamond"/>
              </a:rPr>
              <a:t>Debug a plug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Garamond"/>
              </a:rPr>
              <a:t>Show the compare plug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e5e5ff"/>
                </a:solidFill>
                <a:latin typeface="Garamond"/>
              </a:rPr>
              <a:t>Creating a Natural Studio Plug-i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69850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Why build a plug-i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24000" y="6021360"/>
            <a:ext cx="8424720" cy="722160"/>
            <a:chOff x="324000" y="6021360"/>
            <a:chExt cx="8424720" cy="7221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324000" y="6021360"/>
              <a:ext cx="842472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co-op-r.gif (1042 bytes)"/>
            <p:cNvPicPr/>
            <p:nvPr/>
          </p:nvPicPr>
          <p:blipFill>
            <a:blip r:embed="rId2"/>
            <a:stretch/>
          </p:blipFill>
          <p:spPr>
            <a:xfrm>
              <a:off x="7740720" y="6237000"/>
              <a:ext cx="9349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84360" y="6165720"/>
              <a:ext cx="6913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Chad Scott,   Information Servi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Federated Co-operatives Limited, Saskatoon, Saskatchewan, Canad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066680" y="2209680"/>
            <a:ext cx="6985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I wish I could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but… Only used by Stu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Give access to most aspects of Stu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nsparent” integration into Stu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Integration of additional utilities and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Can be used with remote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e5e5ff"/>
                </a:solidFill>
                <a:latin typeface="Garamond"/>
              </a:rPr>
              <a:t>Creating a Natural Studio Plug-i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69850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Where to build a plug-i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24000" y="6021360"/>
            <a:ext cx="8424720" cy="722160"/>
            <a:chOff x="324000" y="6021360"/>
            <a:chExt cx="8424720" cy="72216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324000" y="6021360"/>
              <a:ext cx="842472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co-op-r.gif (1042 bytes)"/>
            <p:cNvPicPr/>
            <p:nvPr/>
          </p:nvPicPr>
          <p:blipFill>
            <a:blip r:embed="rId2"/>
            <a:stretch/>
          </p:blipFill>
          <p:spPr>
            <a:xfrm>
              <a:off x="7740720" y="6237000"/>
              <a:ext cx="9349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84360" y="6165720"/>
              <a:ext cx="6913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Chad Scott,   Information Servi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Federated Co-operatives Limited, Saskatoon, Saskatchewan, Canad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143000" y="2362320"/>
            <a:ext cx="6705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Decide where it can be accessed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Menu, Tool bar, context menu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Type of objects to invoke the plug-in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invoke any number of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e5e5ff"/>
                </a:solidFill>
                <a:latin typeface="Garamond"/>
              </a:rPr>
              <a:t>Creating a Natural Studio Plug-i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69850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How to build a plug-i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24000" y="6021360"/>
            <a:ext cx="8424720" cy="722160"/>
            <a:chOff x="324000" y="6021360"/>
            <a:chExt cx="8424720" cy="72216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324000" y="6021360"/>
              <a:ext cx="842472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co-op-r.gif (1042 bytes)"/>
            <p:cNvPicPr/>
            <p:nvPr/>
          </p:nvPicPr>
          <p:blipFill>
            <a:blip r:embed="rId2"/>
            <a:stretch/>
          </p:blipFill>
          <p:spPr>
            <a:xfrm>
              <a:off x="7740720" y="6237000"/>
              <a:ext cx="9349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84360" y="6165720"/>
              <a:ext cx="6913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Chad Scott,   Information Servi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Federated Co-operatives Limited, Saskatoon, Saskatchewan, Canad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116000" y="2362320"/>
            <a:ext cx="635148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Ensure SYSEXPLG is a STEPLI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Ensure KCHECK is OFF (for no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Create a new library (op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Generate a new plug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iding what it should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Adding your own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e5e5ff"/>
                </a:solidFill>
                <a:latin typeface="Garamond"/>
              </a:rPr>
              <a:t>Creating a Natural Studio Plug-i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69850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Know your plug-in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24000" y="6021360"/>
            <a:ext cx="8424720" cy="722160"/>
            <a:chOff x="324000" y="6021360"/>
            <a:chExt cx="8424720" cy="72216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324000" y="6021360"/>
              <a:ext cx="842472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co-op-r.gif (1042 bytes)"/>
            <p:cNvPicPr/>
            <p:nvPr/>
          </p:nvPicPr>
          <p:blipFill>
            <a:blip r:embed="rId2"/>
            <a:stretch/>
          </p:blipFill>
          <p:spPr>
            <a:xfrm>
              <a:off x="7740720" y="6237000"/>
              <a:ext cx="9349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84360" y="6165720"/>
              <a:ext cx="6913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Chad Scott,   Information Servi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Federated Co-operatives Limited, Saskatoon, Saskatchewan, Canad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914400" y="2514600"/>
            <a:ext cx="7162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Really just working with Sub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Automatically given access to Studio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sed o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VE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at occur in Stu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subpgm is invoked based on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e5e5ff"/>
                </a:solidFill>
                <a:latin typeface="Garamond"/>
              </a:rPr>
              <a:t>Creating a Natural Studio Plug-i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69850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Know your plug-in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24000" y="6021360"/>
            <a:ext cx="8424720" cy="722160"/>
            <a:chOff x="324000" y="6021360"/>
            <a:chExt cx="8424720" cy="72216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324000" y="6021360"/>
              <a:ext cx="842472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co-op-r.gif (1042 bytes)"/>
            <p:cNvPicPr/>
            <p:nvPr/>
          </p:nvPicPr>
          <p:blipFill>
            <a:blip r:embed="rId2"/>
            <a:stretch/>
          </p:blipFill>
          <p:spPr>
            <a:xfrm>
              <a:off x="7740720" y="6237000"/>
              <a:ext cx="9349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84360" y="6165720"/>
              <a:ext cx="6913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Chad Scott,   Information Servi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Federated Co-operatives Limited, Saskatoon, Saskatchewan, Canad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914400" y="2057400"/>
            <a:ext cx="73152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Plug-in subprogra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ffffcc"/>
                </a:solidFill>
                <a:uFillTx/>
                <a:latin typeface="Garamond"/>
              </a:rPr>
              <a:t>OnAct-n</a:t>
            </a:r>
            <a:r>
              <a:rPr b="0" lang="en-CA" sz="2400" spc="-1" strike="noStrike">
                <a:solidFill>
                  <a:srgbClr val="ffffff"/>
                </a:solidFill>
                <a:latin typeface="Garamond"/>
              </a:rPr>
              <a:t> : invoked only when plug-in is activated.  Can be used to set up menu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ffffcc"/>
                </a:solidFill>
                <a:uFillTx/>
                <a:latin typeface="Garamond"/>
              </a:rPr>
              <a:t>OnCmd-n</a:t>
            </a:r>
            <a:r>
              <a:rPr b="0" lang="en-CA" sz="24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voked when a command is selected, if one of the custom commands then it should be defined and handled in this rout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ffffcc"/>
                </a:solidFill>
                <a:uFillTx/>
                <a:latin typeface="Garamond"/>
              </a:rPr>
              <a:t>OnCst-n</a:t>
            </a:r>
            <a:r>
              <a:rPr b="0" lang="en-CA" sz="24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voked on selection change to  determine if a command is to be enab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e5e5ff"/>
                </a:solidFill>
                <a:latin typeface="Garamond"/>
              </a:rPr>
              <a:t>Creating a Natural Studio Plug-i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69850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Know your plug-in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24000" y="6021360"/>
            <a:ext cx="8424720" cy="722160"/>
            <a:chOff x="324000" y="6021360"/>
            <a:chExt cx="8424720" cy="72216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324000" y="6021360"/>
              <a:ext cx="842472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co-op-r.gif (1042 bytes)"/>
            <p:cNvPicPr/>
            <p:nvPr/>
          </p:nvPicPr>
          <p:blipFill>
            <a:blip r:embed="rId2"/>
            <a:stretch/>
          </p:blipFill>
          <p:spPr>
            <a:xfrm>
              <a:off x="7740720" y="6237000"/>
              <a:ext cx="9349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84360" y="6165720"/>
              <a:ext cx="6913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Chad Scott,   Information Servi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Federated Co-operatives Limited, Saskatoon, Saskatchewan, Canad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914400" y="2057400"/>
            <a:ext cx="7315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Plug-in subprograms continu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ffffcc"/>
                </a:solidFill>
                <a:uFillTx/>
                <a:latin typeface="Garamond"/>
              </a:rPr>
              <a:t>OnDct-n</a:t>
            </a:r>
            <a:r>
              <a:rPr b="0" lang="en-CA" sz="2400" spc="-1" strike="noStrike">
                <a:solidFill>
                  <a:srgbClr val="ffffff"/>
                </a:solidFill>
                <a:latin typeface="Garamond"/>
              </a:rPr>
              <a:t> : invoked only when plug-in is deactiv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e5e5ff"/>
                </a:solidFill>
                <a:latin typeface="Garamond"/>
              </a:rPr>
              <a:t>Creating a Natural Studio Plug-i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69850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Know your plug-in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24000" y="6021360"/>
            <a:ext cx="8424720" cy="722160"/>
            <a:chOff x="324000" y="6021360"/>
            <a:chExt cx="8424720" cy="72216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324000" y="6021360"/>
              <a:ext cx="842472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co-op-r.gif (1042 bytes)"/>
            <p:cNvPicPr/>
            <p:nvPr/>
          </p:nvPicPr>
          <p:blipFill>
            <a:blip r:embed="rId2"/>
            <a:stretch/>
          </p:blipFill>
          <p:spPr>
            <a:xfrm>
              <a:off x="7740720" y="6237000"/>
              <a:ext cx="9349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4360" y="6165720"/>
              <a:ext cx="6913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Chad Scott,   Information Servi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Federated Co-operatives Limited, Saskatoon, Saskatchewan, Canad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914400" y="198108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Single or Shared server process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Can be built using other languages by using provided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faces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, but not at the 14th Natural Conferenc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e5e5ff"/>
                </a:solidFill>
                <a:latin typeface="Garamond"/>
              </a:rPr>
              <a:t>Creating a Natural Studio Plug-i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69850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Enhancements to v6.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24000" y="6021360"/>
            <a:ext cx="8424720" cy="722160"/>
            <a:chOff x="324000" y="6021360"/>
            <a:chExt cx="8424720" cy="72216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324000" y="6021360"/>
              <a:ext cx="842472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co-op-r.gif (1042 bytes)"/>
            <p:cNvPicPr/>
            <p:nvPr/>
          </p:nvPicPr>
          <p:blipFill>
            <a:blip r:embed="rId2"/>
            <a:stretch/>
          </p:blipFill>
          <p:spPr>
            <a:xfrm>
              <a:off x="7740720" y="6237000"/>
              <a:ext cx="9349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684360" y="6165720"/>
              <a:ext cx="6913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Chad Scott,   Information Servi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400" spc="-1" strike="noStrike">
                  <a:solidFill>
                    <a:srgbClr val="ffffff"/>
                  </a:solidFill>
                  <a:latin typeface="Script MT Bold"/>
                </a:rPr>
                <a:t>Federated Co-operatives Limited, Saskatoon, Saskatchewan, Canad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914400" y="2438280"/>
            <a:ext cx="73152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Read-only option for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SYSMAIN-lik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Garamond"/>
              </a:rPr>
              <a:t>Uses objects &amp;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Parse collections – I.E. filesystem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12:55:43Z</dcterms:created>
  <dc:creator>Chad Scott</dc:creator>
  <dc:description/>
  <dc:language>en-US</dc:language>
  <cp:lastModifiedBy>Laptop</cp:lastModifiedBy>
  <cp:lastPrinted>2004-05-21T14:49:38Z</cp:lastPrinted>
  <dcterms:modified xsi:type="dcterms:W3CDTF">2006-10-20T00:59:15Z</dcterms:modified>
  <cp:revision>72</cp:revision>
  <dc:subject>Developing a Plug-in</dc:subject>
  <dc:title>Birth of a Natural Studio Plug-in</dc:title>
</cp:coreProperties>
</file>